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239-3B35-45B6-B067-997BA8BA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4BD-6314-4FDC-8D74-ACAA89F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205-3464-4726-81EF-25F6BEAB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3F3-4398-4091-A381-59A0E040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7D4-CC4E-484E-9BE7-1787A12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09E-8A82-45D8-AD7A-7D3AE45B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89A-549D-4D10-8AE2-E803C215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894-322A-4D0A-BA94-D2FD437B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437-5061-48CE-93E0-507F6EA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7EA-CCD7-4041-A300-2701BFD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B20-B9C8-44A9-A77C-30C7A12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473-1B77-48A7-B653-E330B33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652-D71E-42BE-856A-511869019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de Bono’s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 – Develop our understanding of six hats and our ability to us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771640" y="4797360"/>
            <a:ext cx="1738440" cy="1704960"/>
            <a:chOff x="2771640" y="4797360"/>
            <a:chExt cx="1738440" cy="1704960"/>
          </a:xfrm>
        </p:grpSpPr>
        <p:grpSp>
          <p:nvGrpSpPr>
            <p:cNvPr id="44" name=""/>
            <p:cNvGrpSpPr/>
            <p:nvPr/>
          </p:nvGrpSpPr>
          <p:grpSpPr>
            <a:xfrm>
              <a:off x="2771640" y="4797360"/>
              <a:ext cx="1738440" cy="1704960"/>
              <a:chOff x="2771640" y="4797360"/>
              <a:chExt cx="1738440" cy="1704960"/>
            </a:xfrm>
          </p:grpSpPr>
          <p:sp>
            <p:nvSpPr>
              <p:cNvPr id="45" name=""/>
              <p:cNvSpPr/>
              <p:nvPr/>
            </p:nvSpPr>
            <p:spPr>
              <a:xfrm>
                <a:off x="3007080" y="4797360"/>
                <a:ext cx="1144080" cy="13284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71640" y="5630040"/>
                <a:ext cx="1738440" cy="87228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42520" y="5947200"/>
                <a:ext cx="706680" cy="2376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040560" y="5034960"/>
              <a:ext cx="1076760" cy="44244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356000" y="4437000"/>
            <a:ext cx="1693800" cy="2209680"/>
            <a:chOff x="4356000" y="4437000"/>
            <a:chExt cx="1693800" cy="2209680"/>
          </a:xfrm>
        </p:grpSpPr>
        <p:grpSp>
          <p:nvGrpSpPr>
            <p:cNvPr id="50" name=""/>
            <p:cNvGrpSpPr/>
            <p:nvPr/>
          </p:nvGrpSpPr>
          <p:grpSpPr>
            <a:xfrm>
              <a:off x="4356000" y="4437000"/>
              <a:ext cx="1693800" cy="2209680"/>
              <a:chOff x="4356000" y="4437000"/>
              <a:chExt cx="1693800" cy="2209680"/>
            </a:xfrm>
          </p:grpSpPr>
          <p:sp>
            <p:nvSpPr>
              <p:cNvPr id="51" name=""/>
              <p:cNvSpPr/>
              <p:nvPr/>
            </p:nvSpPr>
            <p:spPr>
              <a:xfrm>
                <a:off x="4585320" y="4437000"/>
                <a:ext cx="1114560" cy="17218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56000" y="5516280"/>
                <a:ext cx="1693800" cy="11304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14640" y="5927400"/>
                <a:ext cx="688320" cy="308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650840" y="4848120"/>
              <a:ext cx="1016280" cy="53964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189000"/>
            <a:ext cx="1235160" cy="1841400"/>
            <a:chOff x="0" y="189000"/>
            <a:chExt cx="1235160" cy="1841400"/>
          </a:xfrm>
        </p:grpSpPr>
        <p:grpSp>
          <p:nvGrpSpPr>
            <p:cNvPr id="56" name=""/>
            <p:cNvGrpSpPr/>
            <p:nvPr/>
          </p:nvGrpSpPr>
          <p:grpSpPr>
            <a:xfrm>
              <a:off x="0" y="189000"/>
              <a:ext cx="1235160" cy="1841400"/>
              <a:chOff x="0" y="189000"/>
              <a:chExt cx="1235160" cy="1841400"/>
            </a:xfrm>
          </p:grpSpPr>
          <p:sp>
            <p:nvSpPr>
              <p:cNvPr id="57" name=""/>
              <p:cNvSpPr/>
              <p:nvPr/>
            </p:nvSpPr>
            <p:spPr>
              <a:xfrm>
                <a:off x="167040" y="189000"/>
                <a:ext cx="812880" cy="14346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088280"/>
                <a:ext cx="1235160" cy="9421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4440" y="1431000"/>
                <a:ext cx="501840" cy="2566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39040" y="617040"/>
              <a:ext cx="717120" cy="42804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8360" y="1268280"/>
            <a:ext cx="1262160" cy="2354040"/>
            <a:chOff x="468360" y="1268280"/>
            <a:chExt cx="1262160" cy="2354040"/>
          </a:xfrm>
        </p:grpSpPr>
        <p:grpSp>
          <p:nvGrpSpPr>
            <p:cNvPr id="62" name=""/>
            <p:cNvGrpSpPr/>
            <p:nvPr/>
          </p:nvGrpSpPr>
          <p:grpSpPr>
            <a:xfrm>
              <a:off x="468360" y="1268280"/>
              <a:ext cx="1262160" cy="2354040"/>
              <a:chOff x="468360" y="1268280"/>
              <a:chExt cx="1262160" cy="2354040"/>
            </a:xfrm>
          </p:grpSpPr>
          <p:sp>
            <p:nvSpPr>
              <p:cNvPr id="63" name=""/>
              <p:cNvSpPr/>
              <p:nvPr/>
            </p:nvSpPr>
            <p:spPr>
              <a:xfrm>
                <a:off x="639000" y="1268280"/>
                <a:ext cx="830520" cy="183420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360" y="2418120"/>
                <a:ext cx="1262160" cy="120420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0360" y="2855880"/>
                <a:ext cx="513000" cy="3283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687960" y="1596600"/>
              <a:ext cx="757440" cy="7023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516720" y="189000"/>
            <a:ext cx="1871640" cy="1628280"/>
            <a:chOff x="6516720" y="189000"/>
            <a:chExt cx="1871640" cy="1628280"/>
          </a:xfrm>
        </p:grpSpPr>
        <p:grpSp>
          <p:nvGrpSpPr>
            <p:cNvPr id="68" name=""/>
            <p:cNvGrpSpPr/>
            <p:nvPr/>
          </p:nvGrpSpPr>
          <p:grpSpPr>
            <a:xfrm>
              <a:off x="6516720" y="284760"/>
              <a:ext cx="1871640" cy="1532520"/>
              <a:chOff x="6516720" y="284760"/>
              <a:chExt cx="1871640" cy="15325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6516720" y="284760"/>
                <a:ext cx="1871640" cy="1532520"/>
                <a:chOff x="6516720" y="284760"/>
                <a:chExt cx="1871640" cy="1532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770160" y="284760"/>
                  <a:ext cx="1231560" cy="11944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16720" y="1033200"/>
                  <a:ext cx="1871640" cy="78408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023600" y="1318680"/>
                  <a:ext cx="760680" cy="21384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6830280" y="498600"/>
                <a:ext cx="1146960" cy="4989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78680" y="189000"/>
              <a:ext cx="133560" cy="5346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659640" y="1773360"/>
            <a:ext cx="2130480" cy="1693800"/>
            <a:chOff x="6659640" y="1773360"/>
            <a:chExt cx="2130480" cy="1693800"/>
          </a:xfrm>
        </p:grpSpPr>
        <p:grpSp>
          <p:nvGrpSpPr>
            <p:cNvPr id="76" name=""/>
            <p:cNvGrpSpPr/>
            <p:nvPr/>
          </p:nvGrpSpPr>
          <p:grpSpPr>
            <a:xfrm>
              <a:off x="6659640" y="1773360"/>
              <a:ext cx="2130480" cy="1693800"/>
              <a:chOff x="6659640" y="1773360"/>
              <a:chExt cx="2130480" cy="1693800"/>
            </a:xfrm>
          </p:grpSpPr>
          <p:sp>
            <p:nvSpPr>
              <p:cNvPr id="77" name=""/>
              <p:cNvSpPr/>
              <p:nvPr/>
            </p:nvSpPr>
            <p:spPr>
              <a:xfrm>
                <a:off x="6948000" y="1773360"/>
                <a:ext cx="1401840" cy="1319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59640" y="2600640"/>
                <a:ext cx="2130480" cy="86652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6720" y="2915640"/>
                <a:ext cx="865800" cy="23616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016760" y="2009520"/>
              <a:ext cx="1305720" cy="5511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192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198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199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205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210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211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222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233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ould the six hats theory be good in a busines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WHY?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Thinking Hats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905120"/>
            <a:ext cx="1447920" cy="1295280"/>
            <a:chOff x="1066680" y="1905120"/>
            <a:chExt cx="1447920" cy="1295280"/>
          </a:xfrm>
        </p:grpSpPr>
        <p:grpSp>
          <p:nvGrpSpPr>
            <p:cNvPr id="83" name=""/>
            <p:cNvGrpSpPr/>
            <p:nvPr/>
          </p:nvGrpSpPr>
          <p:grpSpPr>
            <a:xfrm>
              <a:off x="1066680" y="1905120"/>
              <a:ext cx="1447920" cy="1295280"/>
              <a:chOff x="1066680" y="1905120"/>
              <a:chExt cx="144792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1262520" y="1905120"/>
                <a:ext cx="95292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66680" y="253764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58720" y="277884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309320" y="208584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962520" y="1523880"/>
            <a:ext cx="1447560" cy="1295640"/>
            <a:chOff x="3962520" y="1523880"/>
            <a:chExt cx="1447560" cy="1295640"/>
          </a:xfrm>
        </p:grpSpPr>
        <p:grpSp>
          <p:nvGrpSpPr>
            <p:cNvPr id="89" name=""/>
            <p:cNvGrpSpPr/>
            <p:nvPr/>
          </p:nvGrpSpPr>
          <p:grpSpPr>
            <a:xfrm>
              <a:off x="3962520" y="1523880"/>
              <a:ext cx="1447560" cy="1295640"/>
              <a:chOff x="3962520" y="1523880"/>
              <a:chExt cx="1447560" cy="1295640"/>
            </a:xfrm>
          </p:grpSpPr>
          <p:sp>
            <p:nvSpPr>
              <p:cNvPr id="90" name=""/>
              <p:cNvSpPr/>
              <p:nvPr/>
            </p:nvSpPr>
            <p:spPr>
              <a:xfrm>
                <a:off x="4158360" y="1523880"/>
                <a:ext cx="95256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62520" y="215676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54560" y="239760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205160" y="170460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4572000"/>
            <a:ext cx="1447560" cy="1295280"/>
            <a:chOff x="762120" y="4572000"/>
            <a:chExt cx="1447560" cy="1295280"/>
          </a:xfrm>
        </p:grpSpPr>
        <p:grpSp>
          <p:nvGrpSpPr>
            <p:cNvPr id="95" name=""/>
            <p:cNvGrpSpPr/>
            <p:nvPr/>
          </p:nvGrpSpPr>
          <p:grpSpPr>
            <a:xfrm>
              <a:off x="762120" y="4572000"/>
              <a:ext cx="1447560" cy="1295280"/>
              <a:chOff x="762120" y="4572000"/>
              <a:chExt cx="1447560" cy="1295280"/>
            </a:xfrm>
          </p:grpSpPr>
          <p:sp>
            <p:nvSpPr>
              <p:cNvPr id="96" name=""/>
              <p:cNvSpPr/>
              <p:nvPr/>
            </p:nvSpPr>
            <p:spPr>
              <a:xfrm>
                <a:off x="957960" y="4572000"/>
                <a:ext cx="952560" cy="10090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2120" y="5204520"/>
                <a:ext cx="144756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54160" y="5445720"/>
                <a:ext cx="58824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04760" y="4752720"/>
              <a:ext cx="88704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4267080"/>
            <a:ext cx="1447920" cy="1295640"/>
            <a:chOff x="6629400" y="4267080"/>
            <a:chExt cx="1447920" cy="1295640"/>
          </a:xfrm>
        </p:grpSpPr>
        <p:grpSp>
          <p:nvGrpSpPr>
            <p:cNvPr id="101" name=""/>
            <p:cNvGrpSpPr/>
            <p:nvPr/>
          </p:nvGrpSpPr>
          <p:grpSpPr>
            <a:xfrm>
              <a:off x="6629400" y="4267080"/>
              <a:ext cx="1447920" cy="1295640"/>
              <a:chOff x="6629400" y="4267080"/>
              <a:chExt cx="1447920" cy="129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6825240" y="4267080"/>
                <a:ext cx="952920" cy="100944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29400" y="4899960"/>
                <a:ext cx="1447920" cy="6627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21440" y="5140800"/>
                <a:ext cx="588600" cy="18072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040" y="4447800"/>
              <a:ext cx="887400" cy="42156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3276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h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038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4724280"/>
            <a:ext cx="1447920" cy="1600200"/>
            <a:chOff x="4038480" y="4724280"/>
            <a:chExt cx="1447920" cy="1600200"/>
          </a:xfrm>
        </p:grpSpPr>
        <p:grpSp>
          <p:nvGrpSpPr>
            <p:cNvPr id="113" name=""/>
            <p:cNvGrpSpPr/>
            <p:nvPr/>
          </p:nvGrpSpPr>
          <p:grpSpPr>
            <a:xfrm>
              <a:off x="4038480" y="5029200"/>
              <a:ext cx="1447920" cy="1295280"/>
              <a:chOff x="4038480" y="5029200"/>
              <a:chExt cx="144792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038480" y="5029200"/>
                <a:ext cx="1447920" cy="1295280"/>
                <a:chOff x="4038480" y="5029200"/>
                <a:chExt cx="144792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34320" y="5029200"/>
                  <a:ext cx="952920" cy="100908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8480" y="566172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430520" y="590292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4281120" y="520992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flipV="1">
              <a:off x="457200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2000" y="5079960"/>
              <a:ext cx="244440" cy="357120"/>
            </a:xfrm>
            <a:custGeom>
              <a:avLst/>
              <a:gdLst/>
              <a:ahLst/>
              <a:rect l="l" t="t" r="r" b="b"/>
              <a:pathLst>
                <a:path w="154" h="225">
                  <a:moveTo>
                    <a:pt x="142" y="225"/>
                  </a:moveTo>
                  <a:cubicBezTo>
                    <a:pt x="121" y="75"/>
                    <a:pt x="154" y="219"/>
                    <a:pt x="105" y="132"/>
                  </a:cubicBezTo>
                  <a:cubicBezTo>
                    <a:pt x="99" y="121"/>
                    <a:pt x="104" y="105"/>
                    <a:pt x="96" y="95"/>
                  </a:cubicBezTo>
                  <a:cubicBezTo>
                    <a:pt x="84" y="80"/>
                    <a:pt x="39" y="72"/>
                    <a:pt x="22" y="68"/>
                  </a:cubicBezTo>
                  <a:cubicBezTo>
                    <a:pt x="0" y="0"/>
                    <a:pt x="14" y="11"/>
                    <a:pt x="78" y="22"/>
                  </a:cubicBezTo>
                  <a:cubicBezTo>
                    <a:pt x="81" y="46"/>
                    <a:pt x="87" y="95"/>
                    <a:pt x="87" y="95"/>
                  </a:cubicBezTo>
                  <a:lnTo>
                    <a:pt x="142" y="2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2640" y="4946760"/>
              <a:ext cx="125280" cy="328680"/>
            </a:xfrm>
            <a:custGeom>
              <a:avLst/>
              <a:gdLst/>
              <a:ahLst/>
              <a:rect l="l" t="t" r="r" b="b"/>
              <a:pathLst>
                <a:path w="79" h="207">
                  <a:moveTo>
                    <a:pt x="43" y="207"/>
                  </a:moveTo>
                  <a:cubicBezTo>
                    <a:pt x="40" y="189"/>
                    <a:pt x="43" y="168"/>
                    <a:pt x="34" y="152"/>
                  </a:cubicBezTo>
                  <a:cubicBezTo>
                    <a:pt x="29" y="143"/>
                    <a:pt x="7" y="152"/>
                    <a:pt x="6" y="142"/>
                  </a:cubicBezTo>
                  <a:cubicBezTo>
                    <a:pt x="0" y="96"/>
                    <a:pt x="12" y="50"/>
                    <a:pt x="15" y="4"/>
                  </a:cubicBezTo>
                  <a:cubicBezTo>
                    <a:pt x="34" y="7"/>
                    <a:pt x="58" y="0"/>
                    <a:pt x="71" y="13"/>
                  </a:cubicBezTo>
                  <a:cubicBezTo>
                    <a:pt x="79" y="21"/>
                    <a:pt x="57" y="31"/>
                    <a:pt x="52" y="41"/>
                  </a:cubicBezTo>
                  <a:cubicBezTo>
                    <a:pt x="45" y="56"/>
                    <a:pt x="40" y="72"/>
                    <a:pt x="34" y="87"/>
                  </a:cubicBezTo>
                  <a:cubicBezTo>
                    <a:pt x="46" y="124"/>
                    <a:pt x="47" y="110"/>
                    <a:pt x="34" y="152"/>
                  </a:cubicBezTo>
                  <a:cubicBezTo>
                    <a:pt x="31" y="161"/>
                    <a:pt x="22" y="170"/>
                    <a:pt x="24" y="179"/>
                  </a:cubicBezTo>
                  <a:cubicBezTo>
                    <a:pt x="26" y="190"/>
                    <a:pt x="37" y="198"/>
                    <a:pt x="43" y="207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4724280"/>
              <a:ext cx="152280" cy="454320"/>
            </a:xfrm>
            <a:custGeom>
              <a:avLst/>
              <a:gdLst/>
              <a:ahLst/>
              <a:rect l="l" t="t" r="r" b="b"/>
              <a:pathLst>
                <a:path w="96" h="286">
                  <a:moveTo>
                    <a:pt x="71" y="286"/>
                  </a:moveTo>
                  <a:cubicBezTo>
                    <a:pt x="87" y="242"/>
                    <a:pt x="96" y="211"/>
                    <a:pt x="44" y="194"/>
                  </a:cubicBezTo>
                  <a:cubicBezTo>
                    <a:pt x="1" y="151"/>
                    <a:pt x="0" y="42"/>
                    <a:pt x="44" y="0"/>
                  </a:cubicBezTo>
                  <a:cubicBezTo>
                    <a:pt x="57" y="55"/>
                    <a:pt x="63" y="114"/>
                    <a:pt x="34" y="16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781680" y="1981080"/>
            <a:ext cx="1447920" cy="1295640"/>
            <a:chOff x="6781680" y="1981080"/>
            <a:chExt cx="1447920" cy="1295640"/>
          </a:xfrm>
        </p:grpSpPr>
        <p:grpSp>
          <p:nvGrpSpPr>
            <p:cNvPr id="124" name=""/>
            <p:cNvGrpSpPr/>
            <p:nvPr/>
          </p:nvGrpSpPr>
          <p:grpSpPr>
            <a:xfrm>
              <a:off x="6781680" y="1981080"/>
              <a:ext cx="1447920" cy="1295640"/>
              <a:chOff x="6781680" y="1981080"/>
              <a:chExt cx="1447920" cy="1295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781680" y="1981080"/>
                <a:ext cx="1447920" cy="1295640"/>
                <a:chOff x="6781680" y="1981080"/>
                <a:chExt cx="1447920" cy="12956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77520" y="1981080"/>
                  <a:ext cx="952920" cy="100944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81680" y="2613960"/>
                  <a:ext cx="1447920" cy="6627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73720" y="2854800"/>
                  <a:ext cx="588600" cy="18072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ffff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7024320" y="2161800"/>
                <a:ext cx="887400" cy="42156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315200" y="2666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Choose one of the eight proposals. Do a six hats fo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 Extra Bold"/>
              </a:rPr>
              <a:t>Once you have finished your 6 hats. Create a poster explaining the purpose of 6 hats and a guide to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feel about the sugges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r gut re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tuition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hink too long or too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3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00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066680" y="2819520"/>
              <a:ext cx="2438640" cy="850680"/>
            </a:xfrm>
            <a:custGeom>
              <a:avLst/>
              <a:gdLst/>
              <a:ahLst/>
              <a:rect l="l" t="t" r="r" b="b"/>
              <a:pathLst>
                <a:path w="1536" h="536">
                  <a:moveTo>
                    <a:pt x="0" y="432"/>
                  </a:moveTo>
                  <a:cubicBezTo>
                    <a:pt x="84" y="476"/>
                    <a:pt x="168" y="520"/>
                    <a:pt x="288" y="528"/>
                  </a:cubicBezTo>
                  <a:cubicBezTo>
                    <a:pt x="408" y="536"/>
                    <a:pt x="544" y="536"/>
                    <a:pt x="720" y="480"/>
                  </a:cubicBezTo>
                  <a:cubicBezTo>
                    <a:pt x="896" y="424"/>
                    <a:pt x="1208" y="272"/>
                    <a:pt x="1344" y="192"/>
                  </a:cubicBezTo>
                  <a:cubicBezTo>
                    <a:pt x="1480" y="112"/>
                    <a:pt x="1512" y="32"/>
                    <a:pt x="153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seeking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a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formation is available? What  is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aring the white hat we are neutral in our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45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46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43000" y="2971800"/>
              <a:ext cx="2362320" cy="80028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336"/>
                  </a:moveTo>
                  <a:cubicBezTo>
                    <a:pt x="40" y="372"/>
                    <a:pt x="80" y="408"/>
                    <a:pt x="192" y="432"/>
                  </a:cubicBezTo>
                  <a:cubicBezTo>
                    <a:pt x="304" y="456"/>
                    <a:pt x="512" y="504"/>
                    <a:pt x="672" y="480"/>
                  </a:cubicBezTo>
                  <a:cubicBezTo>
                    <a:pt x="832" y="456"/>
                    <a:pt x="1016" y="368"/>
                    <a:pt x="1152" y="288"/>
                  </a:cubicBezTo>
                  <a:cubicBezTo>
                    <a:pt x="1288" y="208"/>
                    <a:pt x="1432" y="48"/>
                    <a:pt x="148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457200" y="2209680"/>
            <a:ext cx="3961800" cy="3276360"/>
            <a:chOff x="457200" y="2209680"/>
            <a:chExt cx="3961800" cy="3276360"/>
          </a:xfrm>
        </p:grpSpPr>
        <p:grpSp>
          <p:nvGrpSpPr>
            <p:cNvPr id="151" name=""/>
            <p:cNvGrpSpPr/>
            <p:nvPr/>
          </p:nvGrpSpPr>
          <p:grpSpPr>
            <a:xfrm>
              <a:off x="457200" y="2209680"/>
              <a:ext cx="3961800" cy="3276360"/>
              <a:chOff x="457200" y="2209680"/>
              <a:chExt cx="3961800" cy="32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993600" y="2209680"/>
                <a:ext cx="260748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3809880"/>
                <a:ext cx="396180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30360" y="4419360"/>
                <a:ext cx="161028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24000" y="2971440"/>
              <a:ext cx="230076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32"/>
                  </a:moveTo>
                  <a:lnTo>
                    <a:pt x="96" y="480"/>
                  </a:lnTo>
                  <a:lnTo>
                    <a:pt x="288" y="240"/>
                  </a:lnTo>
                  <a:lnTo>
                    <a:pt x="384" y="288"/>
                  </a:lnTo>
                  <a:lnTo>
                    <a:pt x="576" y="96"/>
                  </a:lnTo>
                  <a:lnTo>
                    <a:pt x="816" y="240"/>
                  </a:lnTo>
                  <a:lnTo>
                    <a:pt x="912" y="0"/>
                  </a:lnTo>
                  <a:lnTo>
                    <a:pt x="1248" y="240"/>
                  </a:lnTo>
                  <a:lnTo>
                    <a:pt x="1344" y="0"/>
                  </a:lnTo>
                  <a:lnTo>
                    <a:pt x="1440" y="0"/>
                  </a:lnTo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nshine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itive and constru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bout effectiveness and getting a job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benefits, the advan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05120" y="3657600"/>
            <a:ext cx="990000" cy="228600"/>
            <a:chOff x="1905120" y="3657600"/>
            <a:chExt cx="990000" cy="228600"/>
          </a:xfrm>
        </p:grpSpPr>
        <p:grpSp>
          <p:nvGrpSpPr>
            <p:cNvPr id="159" name=""/>
            <p:cNvGrpSpPr/>
            <p:nvPr/>
          </p:nvGrpSpPr>
          <p:grpSpPr>
            <a:xfrm>
              <a:off x="1905120" y="3657600"/>
              <a:ext cx="990000" cy="228600"/>
              <a:chOff x="1905120" y="3657600"/>
              <a:chExt cx="990000" cy="2286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0512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560" y="365760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0570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84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utio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ack hat the thinker points out errors or pit-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risks or danger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difficultie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" y="2362320"/>
            <a:ext cx="3936960" cy="3276360"/>
            <a:chOff x="457200" y="2362320"/>
            <a:chExt cx="3936960" cy="3276360"/>
          </a:xfrm>
        </p:grpSpPr>
        <p:grpSp>
          <p:nvGrpSpPr>
            <p:cNvPr id="167" name=""/>
            <p:cNvGrpSpPr/>
            <p:nvPr/>
          </p:nvGrpSpPr>
          <p:grpSpPr>
            <a:xfrm>
              <a:off x="457200" y="2362320"/>
              <a:ext cx="3936960" cy="3276360"/>
              <a:chOff x="457200" y="2362320"/>
              <a:chExt cx="3936960" cy="327636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360" y="23623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39625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45720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000000"/>
              </a:solidFill>
              <a:ln w="31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143000" y="2819520"/>
              <a:ext cx="2362320" cy="97776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creative mode of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represents growth and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reen hat we look to new ideas and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hinking wears a green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081160"/>
            <a:ext cx="3936960" cy="3481200"/>
            <a:chOff x="635040" y="2081160"/>
            <a:chExt cx="3936960" cy="3481200"/>
          </a:xfrm>
        </p:grpSpPr>
        <p:grpSp>
          <p:nvGrpSpPr>
            <p:cNvPr id="175" name=""/>
            <p:cNvGrpSpPr/>
            <p:nvPr/>
          </p:nvGrpSpPr>
          <p:grpSpPr>
            <a:xfrm>
              <a:off x="635040" y="2286000"/>
              <a:ext cx="3936960" cy="3276360"/>
              <a:chOff x="635040" y="2286000"/>
              <a:chExt cx="3936960" cy="32763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35040" y="2286000"/>
                <a:ext cx="3936960" cy="3276360"/>
                <a:chOff x="635040" y="2286000"/>
                <a:chExt cx="3936960" cy="327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8200" y="2286000"/>
                  <a:ext cx="2590920" cy="2552760"/>
                </a:xfrm>
                <a:custGeom>
                  <a:avLst/>
                  <a:gdLst/>
                  <a:ahLst/>
                  <a:rect l="l" t="t" r="r" b="b"/>
                  <a:pathLst>
                    <a:path w="1632" h="1608">
                      <a:moveTo>
                        <a:pt x="344" y="1368"/>
                      </a:moveTo>
                      <a:cubicBezTo>
                        <a:pt x="172" y="1092"/>
                        <a:pt x="0" y="816"/>
                        <a:pt x="104" y="600"/>
                      </a:cubicBezTo>
                      <a:cubicBezTo>
                        <a:pt x="208" y="384"/>
                        <a:pt x="728" y="144"/>
                        <a:pt x="968" y="72"/>
                      </a:cubicBezTo>
                      <a:cubicBezTo>
                        <a:pt x="1208" y="0"/>
                        <a:pt x="1456" y="8"/>
                        <a:pt x="1544" y="168"/>
                      </a:cubicBezTo>
                      <a:cubicBezTo>
                        <a:pt x="1632" y="328"/>
                        <a:pt x="1528" y="792"/>
                        <a:pt x="1496" y="1032"/>
                      </a:cubicBezTo>
                      <a:cubicBezTo>
                        <a:pt x="1464" y="1272"/>
                        <a:pt x="1376" y="1504"/>
                        <a:pt x="1352" y="1608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5040" y="3886200"/>
                  <a:ext cx="3936960" cy="1676160"/>
                </a:xfrm>
                <a:custGeom>
                  <a:avLst/>
                  <a:gdLst/>
                  <a:ahLst/>
                  <a:rect l="l" t="t" r="r" b="b"/>
                  <a:pathLst>
                    <a:path w="2480" h="1056">
                      <a:moveTo>
                        <a:pt x="512" y="88"/>
                      </a:moveTo>
                      <a:cubicBezTo>
                        <a:pt x="492" y="44"/>
                        <a:pt x="472" y="0"/>
                        <a:pt x="416" y="88"/>
                      </a:cubicBezTo>
                      <a:cubicBezTo>
                        <a:pt x="360" y="176"/>
                        <a:pt x="0" y="456"/>
                        <a:pt x="176" y="616"/>
                      </a:cubicBezTo>
                      <a:cubicBezTo>
                        <a:pt x="352" y="776"/>
                        <a:pt x="1112" y="1040"/>
                        <a:pt x="1472" y="1048"/>
                      </a:cubicBezTo>
                      <a:cubicBezTo>
                        <a:pt x="1832" y="1056"/>
                        <a:pt x="2192" y="744"/>
                        <a:pt x="2336" y="664"/>
                      </a:cubicBezTo>
                      <a:cubicBezTo>
                        <a:pt x="2480" y="584"/>
                        <a:pt x="2392" y="648"/>
                        <a:pt x="2336" y="568"/>
                      </a:cubicBezTo>
                      <a:cubicBezTo>
                        <a:pt x="2280" y="488"/>
                        <a:pt x="2096" y="248"/>
                        <a:pt x="2000" y="184"/>
                      </a:cubicBezTo>
                      <a:cubicBezTo>
                        <a:pt x="1904" y="120"/>
                        <a:pt x="1800" y="184"/>
                        <a:pt x="1760" y="184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1720" y="4495680"/>
                  <a:ext cx="1600200" cy="457200"/>
                </a:xfrm>
                <a:custGeom>
                  <a:avLst/>
                  <a:gdLst/>
                  <a:ahLst/>
                  <a:rect l="l" t="t" r="r" b="b"/>
                  <a:pathLst>
                    <a:path w="1008" h="288">
                      <a:moveTo>
                        <a:pt x="0" y="0"/>
                      </a:moveTo>
                      <a:cubicBezTo>
                        <a:pt x="12" y="72"/>
                        <a:pt x="24" y="144"/>
                        <a:pt x="144" y="192"/>
                      </a:cubicBezTo>
                      <a:cubicBezTo>
                        <a:pt x="264" y="240"/>
                        <a:pt x="576" y="288"/>
                        <a:pt x="720" y="288"/>
                      </a:cubicBezTo>
                      <a:cubicBezTo>
                        <a:pt x="864" y="288"/>
                        <a:pt x="936" y="240"/>
                        <a:pt x="1008" y="192"/>
                      </a:cubicBezTo>
                    </a:path>
                  </a:pathLst>
                </a:custGeom>
                <a:solidFill>
                  <a:srgbClr val="008000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295280" y="2743200"/>
                <a:ext cx="2413080" cy="1066680"/>
              </a:xfrm>
              <a:custGeom>
                <a:avLst/>
                <a:gdLst/>
                <a:ahLst/>
                <a:rect l="l" t="t" r="r" b="b"/>
                <a:pathLst>
                  <a:path w="1520" h="672">
                    <a:moveTo>
                      <a:pt x="0" y="480"/>
                    </a:moveTo>
                    <a:cubicBezTo>
                      <a:pt x="108" y="576"/>
                      <a:pt x="216" y="672"/>
                      <a:pt x="384" y="672"/>
                    </a:cubicBezTo>
                    <a:cubicBezTo>
                      <a:pt x="552" y="672"/>
                      <a:pt x="832" y="568"/>
                      <a:pt x="1008" y="480"/>
                    </a:cubicBezTo>
                    <a:cubicBezTo>
                      <a:pt x="1184" y="392"/>
                      <a:pt x="1360" y="224"/>
                      <a:pt x="1440" y="144"/>
                    </a:cubicBezTo>
                    <a:cubicBezTo>
                      <a:pt x="1520" y="64"/>
                      <a:pt x="1504" y="32"/>
                      <a:pt x="148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817640" y="2081160"/>
              <a:ext cx="281160" cy="1143000"/>
            </a:xfrm>
            <a:custGeom>
              <a:avLst/>
              <a:gdLst/>
              <a:ahLst/>
              <a:rect l="l" t="t" r="r" b="b"/>
              <a:pathLst>
                <a:path w="177" h="720">
                  <a:moveTo>
                    <a:pt x="101" y="720"/>
                  </a:moveTo>
                  <a:cubicBezTo>
                    <a:pt x="95" y="581"/>
                    <a:pt x="130" y="495"/>
                    <a:pt x="0" y="452"/>
                  </a:cubicBezTo>
                  <a:cubicBezTo>
                    <a:pt x="3" y="344"/>
                    <a:pt x="1" y="236"/>
                    <a:pt x="9" y="129"/>
                  </a:cubicBezTo>
                  <a:cubicBezTo>
                    <a:pt x="11" y="103"/>
                    <a:pt x="40" y="95"/>
                    <a:pt x="55" y="83"/>
                  </a:cubicBezTo>
                  <a:cubicBezTo>
                    <a:pt x="92" y="53"/>
                    <a:pt x="110" y="15"/>
                    <a:pt x="157" y="0"/>
                  </a:cubicBezTo>
                  <a:cubicBezTo>
                    <a:pt x="177" y="61"/>
                    <a:pt x="177" y="50"/>
                    <a:pt x="157" y="157"/>
                  </a:cubicBezTo>
                  <a:cubicBezTo>
                    <a:pt x="154" y="174"/>
                    <a:pt x="130" y="179"/>
                    <a:pt x="120" y="194"/>
                  </a:cubicBezTo>
                  <a:cubicBezTo>
                    <a:pt x="103" y="219"/>
                    <a:pt x="101" y="232"/>
                    <a:pt x="92" y="258"/>
                  </a:cubicBezTo>
                  <a:cubicBezTo>
                    <a:pt x="104" y="458"/>
                    <a:pt x="101" y="357"/>
                    <a:pt x="101" y="563"/>
                  </a:cubicBezTo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 hat, organising thinking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the focus, calls for the use of other h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and reflects on the thinking process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s for plan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2133720"/>
            <a:ext cx="3936960" cy="3276360"/>
            <a:chOff x="533520" y="2133720"/>
            <a:chExt cx="3936960" cy="3276360"/>
          </a:xfrm>
        </p:grpSpPr>
        <p:grpSp>
          <p:nvGrpSpPr>
            <p:cNvPr id="185" name=""/>
            <p:cNvGrpSpPr/>
            <p:nvPr/>
          </p:nvGrpSpPr>
          <p:grpSpPr>
            <a:xfrm>
              <a:off x="533520" y="2133720"/>
              <a:ext cx="3936960" cy="3276360"/>
              <a:chOff x="533520" y="2133720"/>
              <a:chExt cx="3936960" cy="3276360"/>
            </a:xfrm>
          </p:grpSpPr>
          <p:sp>
            <p:nvSpPr>
              <p:cNvPr id="186" name=""/>
              <p:cNvSpPr/>
              <p:nvPr/>
            </p:nvSpPr>
            <p:spPr>
              <a:xfrm>
                <a:off x="1066680" y="2133720"/>
                <a:ext cx="2590920" cy="255276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520" y="3733920"/>
                <a:ext cx="3936960" cy="16761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00200" y="4343400"/>
                <a:ext cx="1600200" cy="45720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3333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93760" y="2590560"/>
              <a:ext cx="2413080" cy="1066320"/>
            </a:xfrm>
            <a:custGeom>
              <a:avLst/>
              <a:gdLst/>
              <a:ahLst/>
              <a:rect l="l" t="t" r="r" b="b"/>
              <a:pathLst>
                <a:path w="1520" h="672">
                  <a:moveTo>
                    <a:pt x="0" y="480"/>
                  </a:moveTo>
                  <a:cubicBezTo>
                    <a:pt x="108" y="576"/>
                    <a:pt x="216" y="672"/>
                    <a:pt x="384" y="672"/>
                  </a:cubicBezTo>
                  <a:cubicBezTo>
                    <a:pt x="552" y="672"/>
                    <a:pt x="832" y="568"/>
                    <a:pt x="1008" y="480"/>
                  </a:cubicBezTo>
                  <a:cubicBezTo>
                    <a:pt x="1184" y="392"/>
                    <a:pt x="1360" y="224"/>
                    <a:pt x="1440" y="144"/>
                  </a:cubicBezTo>
                  <a:cubicBezTo>
                    <a:pt x="1520" y="64"/>
                    <a:pt x="1504" y="32"/>
                    <a:pt x="1488" y="0"/>
                  </a:cubicBezTo>
                </a:path>
              </a:pathLst>
            </a:custGeom>
            <a:solidFill>
              <a:srgbClr val="3333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39:02Z</dcterms:created>
  <dc:creator>LEEDS CITY COUNCIL LEEDS CITY</dc:creator>
  <dc:description/>
  <dc:language>en-US</dc:language>
  <cp:lastModifiedBy>Robert</cp:lastModifiedBy>
  <dcterms:modified xsi:type="dcterms:W3CDTF">2008-11-13T10:45:42Z</dcterms:modified>
  <cp:revision>8</cp:revision>
  <dc:subject/>
  <dc:title>Six Thinking Hats</dc:title>
</cp:coreProperties>
</file>